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496E-5FC9-4CFF-B3DE-8F4D34F985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as de correcçã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mma 1: Todos os processos herdam no máximo um pedido para fazer um checkpoint tent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mma 2: Todos os processos terminam a sua execução do algoritmo C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mma 3: Se o conjunto de checkpoints no sistema é consistente antes da execução de C1, continua a ser consistente após o fim de C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ema 2: C'(P) é consistente se e só se C'(P)=C(P), mostra que se p0 faz checkpoin, então todos os processos em P fazem check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 ou não: se q falha, p pode assumir que willing_to_ckpt = "não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e ou undo: tem de esperar pela decisão do inicia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 o iniciador falha, basta decidir a anulação do checkpoint. Se for um processo normal, tem de pedir a decisão ao iniciador ou aos cohor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dem depois recuperar o estado fazendo rollback até ao último check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tado local de um processo p é definido pelo estado inicial de p e a sequência de eventos que ocorreram em 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tado global é o conjunto de estados locais, um de cada proc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Estado dos canais correspondente a um estado global s, é o o conjunto de mensagens enviadas, mas ainda não recebidas em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m corte consistente é um corte em que nenhuma mensagem é gravada como recebida, sem ser gravada como envi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istem duas aproximações: independentes ou coordenadas. A criação de checkpoints independentes pode dar origem ao efeito domin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m algoritmo naive de criação de checkpoint, é fazê-lo após o envio de cada mensagem, mas isto é muito dispendioso. Se se alargar isto para k&gt;1 pode ficar a sofrer-se do efeito domin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rova do teorema é baseada em dois processos que enviam uma mensagem ao outro no tempo t, e fazem checkpoint no tempo t. p faz checkpoint em tp, q faz checkpoint em tq. O outro pode falhar antes de fazer o checkpoint, ficando o sistema inconsist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primeira fase, o iniciador q toma um checkpoint tentativo e pede a todos os processos para fazerem checkpoints tentativos. Se q sabe que todos os processos fizeram checkpoints tentativos, q decide que todos devem ser feitos permanentes, senão q decide que todos devem ser anul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857-26AD-4964-8C8F-77CF72C1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E90-E7A8-442D-B2DB-262FCA75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366-DEA4-4894-8EB1-99A09548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A4A-EE9C-4418-BF80-8E657B3B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F835-6C4E-46C0-8AC9-C6910AA0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CC62-62CF-4885-BFF5-19537313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7997-B807-4221-9D9A-894C6D17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0E98-7B6E-4A6C-8A86-8745AD3A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0995-DBFE-4C37-8DBC-10A3A806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DBD4-AF0F-400F-8890-9644B65C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3F3D-AC07-470E-A9FE-D43B54B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CA6-EFE5-465B-9BB2-7B00A298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CBDE-EE95-4274-9574-67E45CF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41CE-E099-4A80-9DD6-A042C905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2DB8-347F-419D-8029-F3561FBE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4D22-1ECC-4C87-9469-B0868E8D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B75F-3278-4228-A16D-77B40024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2BD-9E77-4D89-B017-14A09169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649-3009-4B12-8665-2D4D7245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78C-C343-4B36-8DB3-75E89B32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80A-E9D1-4411-BC3C-4C9B6DC7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14C-CA7D-4269-AC5C-43C1011D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B3B-A2D7-4D87-A9FA-02542411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C3D-6367-4C17-BA3D-BAEA9414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966D-54E1-4093-98B2-999896823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47E2-E183-4408-90CE-E4A6F9C04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 and Rollback-Recovery for Distributed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ância a Faltas Distribu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trado de Informática 1998/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o Miranda &lt;hmiranda@di.fc.ul.p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ão Ventura &lt;jcv@bigfoot.co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 de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09680" y="1752480"/>
          <a:ext cx="4892760" cy="444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752480"/>
                    <a:ext cx="489276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vendo Fal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ito em processos que não fal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be “sim” ou “não”dos ckpt_coho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, willing_to_ckp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=“no”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or r has fail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en willing_to_ckp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”n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be “make” ou “undo” tentative check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ito em processos que fal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ci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ções do algoritmo de Rollback-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ve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é desfeito por um process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 p faz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 para um estado guardado antes da ocorrência 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43000" y="3733920"/>
                <a:ext cx="70866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l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ort</m:t>
                            </m:r>
                          </m:sub>
                        </m:sSub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 pode enviar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ção last_sms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981080"/>
                <a:ext cx="5788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msg</m:t>
                            </m:r>
                          </m:sub>
                        </m:sSub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l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 m existir</m:t>
                              </m:r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c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762120" y="297180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e p são 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é a última mensagem qu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viou par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tes de q ter tomado o últim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a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mo de Rollback-Recovery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06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4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1480" y="3962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5296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3480" y="2209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6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420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055520" y="2895120"/>
            <a:ext cx="267336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5360" y="4267080"/>
            <a:ext cx="28148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5680" y="4419720"/>
            <a:ext cx="320544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8960" y="2819520"/>
            <a:ext cx="213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p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1320" y="3886200"/>
            <a:ext cx="211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1920" y="4952880"/>
            <a:ext cx="211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58200" y="1905120"/>
            <a:ext cx="29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Roll_coho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Forte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={p,r,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6600" y="3200400"/>
            <a:ext cx="1619280" cy="775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r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q)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10040" y="4486320"/>
            <a:ext cx="1619280" cy="530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r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q) &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5715000"/>
            <a:ext cx="1676520" cy="530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r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q) &gt; 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010040" y="2514240"/>
            <a:ext cx="36100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0040" y="2971800"/>
            <a:ext cx="39909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334120" y="4266720"/>
            <a:ext cx="2514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48640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8040" y="2133720"/>
            <a:ext cx="208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3080" y="3048120"/>
            <a:ext cx="213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97920" y="4876920"/>
            <a:ext cx="21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7760" y="5791320"/>
            <a:ext cx="21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920" y="563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62120" y="5943600"/>
                <a:ext cx="28144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lling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ll</m:t>
                                </m:r>
                              </m:sub>
                            </m:sSub>
                          </m:sub>
                        </m:sSub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tal </m:t>
                    </m:r>
                    <m:r>
                      <m:t xml:space="preserve">yes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mo de Rollback-Recovery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06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4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11480" y="3962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5296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3480" y="2184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6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420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55520" y="2895120"/>
            <a:ext cx="267336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360" y="4267080"/>
            <a:ext cx="281484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85680" y="4419720"/>
            <a:ext cx="320544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48040" y="213372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Roll_coho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Forte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010040" y="2514240"/>
            <a:ext cx="361008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10040" y="2971800"/>
            <a:ext cx="399096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573440" y="4266720"/>
            <a:ext cx="327528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5562720"/>
            <a:ext cx="31989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920" y="563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838080" y="5943600"/>
                <a:ext cx="28148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lling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ll</m:t>
                                </m:r>
                              </m:sub>
                            </m:sSub>
                          </m:sub>
                        </m:sSub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tal </m:t>
                    </m:r>
                    <m:r>
                      <m:t xml:space="preserve">yes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347080" y="2743200"/>
            <a:ext cx="191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76880" y="3733920"/>
            <a:ext cx="196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5791320"/>
            <a:ext cx="19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105520"/>
            <a:ext cx="2013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3962520"/>
            <a:ext cx="205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25360" y="2895480"/>
            <a:ext cx="199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72428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erê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 um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quanto executa o algoritm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 um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quanto executa o algoritm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 um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quanto executa um outro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 outra ori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 um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quanto executa um outro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 outra ori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niciador de u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/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lha antes de enviar a decisã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tituir o algoritmo por u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ree-phase comm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ão bloque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a impedido de criar nov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ós falha 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ir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 ckpt_cohor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zend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algoritmos 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resent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m falhas de processos durante a sua exec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número de processos que necessita de realiz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s/rollba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é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mória estável requerida pelos algoritmos é mí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umas perguntas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620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usada a relaçã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ppens-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 Lam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do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do do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te cons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 do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processos não partilham memória e comunicam através de mensagens enviadas por ca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ora os canais percam mensagens são tornados FIFO e fiáveis por outra cam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processos falham por paragem. Todos os outros processos são notificados da falha em tempo fin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processos não são determi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ação de Check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check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ntes: não podem ser cance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t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mos resistentes a falhas: se o conjunto de checkpoints permanentes é consistente depois de o algoritmo termi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-se que nenhum algoritmo resistente a falhas usa apenas checkpoints perma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tivações do algoritmo de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ado em protocolos de two-phase com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a melhorar o desempenho, um processo p apenas faz um checkpoint tentativo, depois de receber um pedido para tal de q, apenas se o checkpoint tentativo de q indicar a recepção de uma mensagem de p e o ultimo checkpoint permanente de p não indicar o envio dessa mensag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ções do algoritmo de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= última mensagem que q recebeu de p depois de q fazer o seu último checkpoint (permanente ou tentativ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st_rmsg</a:t>
            </a:r>
            <a:r>
              <a:rPr b="0" lang="en-GB" sz="2000" spc="-1" strike="noStrike" baseline="-12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) = m.l se m existe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m caso contr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= primeira mensagem que q enviou a p depois de q fazer o seu último checkpoint (permanente ou tentativ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_smsg</a:t>
            </a:r>
            <a:r>
              <a:rPr b="0" lang="en-GB" sz="2000" spc="-1" strike="noStrike" baseline="-12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) = m.l se m existe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m caso contrár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ing_to_ckpt</a:t>
            </a:r>
            <a:r>
              <a:rPr b="0" lang="en-GB" sz="2400" spc="-1" strike="noStrike" baseline="-12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ca a disponibilidade de p para fazer chec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2400" spc="-1" strike="noStrike" baseline="-12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é o conjunto de processos p tal que last_rmsg</a:t>
            </a:r>
            <a:r>
              <a:rPr b="0" lang="en-GB" sz="2400" spc="-1" strike="noStrike" baseline="-12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) &gt;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tes de q fazer um checkpoint tent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mo de Check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 “daemon” (iniciado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(initiator, “take a tentative checkpoint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wait(initiator, willing_to_ckpt</a:t>
            </a:r>
            <a:r>
              <a:rPr b="0" lang="en-GB" sz="1800" spc="-1" strike="noStrike" baseline="-12000">
                <a:solidFill>
                  <a:srgbClr val="000000"/>
                </a:solidFill>
                <a:latin typeface="Times New Roman"/>
              </a:rPr>
              <a:t>initiato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willing_to_ckpt</a:t>
            </a:r>
            <a:r>
              <a:rPr b="0" lang="en-GB" sz="1800" spc="-1" strike="noStrike" baseline="-12000">
                <a:solidFill>
                  <a:srgbClr val="000000"/>
                </a:solidFill>
                <a:latin typeface="Times New Roman"/>
              </a:rPr>
              <a:t>initiato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 “yes”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(initiator, “make tentative checkpoint permanen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(initiator, “undo tentative checkpoin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de Checkpoin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os os processos p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161280" indent="0">
              <a:spcBef>
                <a:spcPts val="499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tad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rst_s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daemon)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 “yes” if p is willing to take a checkpoint, “no” other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PON RECEIPT OF “take a tentative checkpoint and last_r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)” from q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st_r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)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rst_s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q)&gt;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ke a tentative check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all r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end(r, take a tentative checkpoint and last_r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r)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all r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wait(r,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“no” then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”no” f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(q,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de Checkpoin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os os processos p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PON RECEIPT OF m=“make tentative checkpoint permanent” or m= “undo tentative checkpoint”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m=“make tentative checkpoint permanent”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ke tentative checkpoint perman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ndo tentative check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all r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end(r,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16:38:11Z</dcterms:created>
  <dc:creator>hmiranda</dc:creator>
  <dc:description/>
  <dc:language>en-US</dc:language>
  <cp:lastModifiedBy>jcv</cp:lastModifiedBy>
  <dcterms:modified xsi:type="dcterms:W3CDTF">1999-06-07T10:34:18Z</dcterms:modified>
  <cp:revision>8</cp:revision>
  <dc:subject/>
  <dc:title>Checkpointing and Rollback-Recovery for Distributed Systems</dc:title>
</cp:coreProperties>
</file>